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0A7-B0FC-471D-8A7B-A082C918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9A4-4866-422B-B372-5E0A10DA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8EED9-265C-4C92-B52B-E3BDB781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CBD27-DA68-48E3-960D-6266CEDA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78C57-78BB-491E-BA47-FD88A60F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51905-B06F-489C-AD80-4421DD68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BCD51-4F65-4BF4-869A-569D33F9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D24CB-AB8B-43A5-8B6C-A3D02F40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94167-5814-4837-BCE7-EEE7D6BA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5D381-D390-41C1-8289-D6F4FB29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F7429-4255-4912-8224-4458B186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AB764E-C617-47C2-BDE8-51164354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511-E053-4F05-8137-5A5B9E8C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B34FCE-5D51-4640-B13C-A34CA4A8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E49368-A88C-464B-8416-1A22954D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909611-00E1-4FA7-A293-D72F958B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99B617-4B07-4C78-B41F-04BCCEE5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CC94B2-DBDB-4C24-B427-3F7600CB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D9F214-B4DA-4066-B1F3-ADFBC3CA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BE02A7-F2D8-48A8-B268-EB91890F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DE3DBD-2BC5-42BE-9AFB-C60B9C1B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65F840-FC06-4919-9885-7F71B2AA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1F49B7-530B-48F4-82CB-11C12A8A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FBF-A8C1-4FBF-AD5D-1D889086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FB2D8B-2D4F-45F8-A6C7-C8B02694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4DC76-9427-421F-A669-5D47733B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54778-0B43-4E82-A1D7-12C89E21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F90DB-23A7-4A20-AACC-26135E52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175AA-1DBA-4E83-ADE4-ECF91AD6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E5EEE-C9C0-455B-B76F-912F1BB4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13A7C-A547-4861-AC4C-D85F8321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EC1AE-D0CF-41F8-89AC-BA9966AF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1B73F-73CB-494F-8E8F-90EF4ECB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B8487-737A-4BA1-A1A5-8DE2DBB0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3EF2-608F-4FAB-8571-F80EFB13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750FD-16BC-461B-879E-CD67A830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0F38B-39DC-4585-BE49-EACE21F2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380CF-A701-43CC-A280-370EE177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5FED7-1BFE-44D4-9E9A-45974D6E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BD31B-F7BC-4BE3-A686-A397F0BF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7618F-8218-4548-8956-6D95F99E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BD468-47F7-4C67-A6C8-DF3CAF87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6810F-CAC7-4465-9844-D0580FD9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C235D-5EF1-408A-BFAA-67BCBF51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30BB7-F3BB-486F-A84C-96A76717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B0DF-68BE-4D41-9302-2BCF6CF0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3D625-B81C-4CBC-A80E-960BB38B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34979-F58F-4D53-91EB-4EEF263A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74A9B-62D9-4CC7-8E63-926E24EA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AD0E8-900E-4A7F-9860-6658A600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FED8B-B5A2-440A-AB52-A307AE25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7D8C-0D03-435A-8F6C-69B2D2B3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D496-EDB1-4502-8A86-4D864BDF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9041-16EF-4821-8E8F-5FA5A012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2222-A334-4661-AFA4-7D19ADDA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C688-1A2B-45DE-86FD-FAC276E8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DF6-CE45-4FF1-836F-4BCA2CD3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FBCD-470B-4B5D-BDD1-3C2627C2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2EC1-056E-46D6-8FE1-20E42BA9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23DA-5B69-4F85-9404-105839F3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A692-B006-4017-8C76-C71AC77D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FFFF-BA35-4D2E-B937-A10E762C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DD99C-8C6F-4312-8334-33FC7010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BB944-2646-4057-853C-4FBF44E6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11C3F-2A93-4A7C-A4F8-ACEF7239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FC193-9A2B-4E0C-A4E2-AD4DC332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9C826-0D57-42EA-ACC8-A6152FCB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2CA-320F-45B9-8586-60926403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B7E42-0F71-4FD2-96D6-7F854A66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1DB04-371D-46D1-A5F3-602012FB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2A2CF-2046-42CB-996D-B6796188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9123C-96F3-4957-9521-38015935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CFBEF-C45E-4DD0-8AF1-50197993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7B84A-0C25-4858-A455-410EBB0E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7EBA6-074A-4884-9838-AEA98814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4C122-DE34-4215-82E8-B2A097C7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D1C87-2E5E-4D7B-BA73-2DF1F716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F3713-2226-4F58-82FF-8801789F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8C9-EDAA-4E4A-AC21-C4045CCA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66FB4-EE28-4325-A317-C7759843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049A9-3D20-408B-A34E-10CECC96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0F233-3189-4438-BE93-9A2A0981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35154-9E9F-4769-98BD-E82265FB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FF04A-8110-4967-9118-CB77C1B4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F6189-1BB3-437A-A1AF-FCAD587E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F7FB3-1A5D-4A1E-990C-AF00C0AE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F65C4-0C4B-434C-98DC-BDE2D89A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3C9B7-B22E-4908-9B62-E930182A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7A22C-D50E-4047-9B20-DA512123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F90-03EC-4038-8520-DF99F9E6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4AD16-1B27-4627-8ED3-3316EDD0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6C5FA-F117-4BC1-99F1-8863E204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35171-F42C-4E80-853F-EE2BBE7B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BC398-FA04-4CB0-B3CD-D1628D86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3AF61-FEEE-4422-B2B1-325CFEAD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303F3-23D2-40B2-996A-D587AEFA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3B9D8-8FE5-463B-934E-0E5E938E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0ECAD-DB19-4561-A804-88277DE6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FA58F-8A98-4912-A056-C0340821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BEEFF-6092-48AE-991B-6422FA09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6415-564B-4865-9934-68A92B31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7D766-43BD-463A-8727-3A20CD26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81161-647F-4458-942C-7C13DBC0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A5E91-929B-45C6-AE00-44CD3806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A5692-E419-41F9-AE48-E80B250B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65591-2C15-4A29-8620-3BE29FEA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EF53C-E92D-4A69-AFDF-0F761FB4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75D56-51E0-4828-8486-A5FF6A80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76C15-8837-4B41-B00C-C8F6DB3C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9A81C-76B7-4DC7-B758-2F757AD4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C48A7-3E8C-4EE1-B035-4E0D532C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8F5-E148-47CE-AB7C-CEADC5D6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41023-0C30-4EC4-B910-86421CBA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C138A-18F9-484B-9DEB-9021784A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1FD38-2742-4DBD-857B-50889198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C74BD-6621-4A96-8B8E-02036E54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02CA1-6CAF-47A3-9942-9E10F409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4B8E12-10A6-4555-9275-9715DDD8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1D33AF-2DA6-4B89-80EC-531C8F75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870790-666B-436F-AE5E-552E8FD9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AB956D-569D-4BB8-8AB8-E18D9468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71274C-6AAA-4B6F-871A-29699BF9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2A4-B198-45E5-A132-787C385B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A2C67-95E9-4620-8557-A45EE7E1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950AEE-6C1C-4B21-B4E8-81961C1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468DF5-C86A-44A0-9D5B-C2473C82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D7A2F-2469-4DF8-BDFE-7EC811AC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C7455-A4D3-43B8-A321-CB9E59CA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63079-60B4-4785-BDEA-9B39F5E2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0402A-DC89-4B0D-BB58-75CAB7B8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61F36-F3ED-4F99-B0D8-CF2947D6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2095D-75D4-48B1-BB12-0AB976C1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B4781-3A31-4C1A-B582-A5965624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9AC-4851-4DA3-B575-D847AC27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57340-D4D6-4C78-8A4C-87FEAEBC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DFDB5-282C-4062-9EAF-9EDACA5F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9D63C-95B7-49BA-968F-C4CA9C7F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6380B-1D69-493C-930E-0018CDEF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31A1E-8520-42E0-A197-22B47325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A33D4-ED92-431F-A135-6EFDEEC3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D3ED9-EECE-4787-AE98-934E3F28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CBDF1-7834-4035-9277-1D0E0E7E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7AEB3-86D3-41F6-BBAB-AC954DBF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420D9-C34F-4EDD-8949-7439D21D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FB74-DC1C-4732-9286-7BD68E292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5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5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6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D430-E059-4F2B-9EE6-DE86A10766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1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B832-8F6B-460D-854F-74389E55F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6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0CF0-2462-4672-90B3-E4657817F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DBF6-3799-4825-895A-CDBC15865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9DBD-3BCA-45DA-B32B-8893BAC9EFF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2291-5F2B-4BB6-BE5B-594B0F9C80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45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46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49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52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7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16A3-0F97-49A5-93EE-CC1E8B6D0CF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21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22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64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70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76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91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3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28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29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39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72F5-BBBF-4F2C-9E7D-2FECB6029DC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1918-3198-4CB6-821B-22537A1154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A905-7382-46A7-8822-7EAF4A8A29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9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9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0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0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35EF-D4E8-4C2C-B8A6-FA8C5452F8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1219320" y="60948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 Ropa Para Las Estaciones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1143000" y="4419720"/>
            <a:ext cx="723888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 Joy Maswoswe and Marissa Rizzolo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l Inviern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724280" y="1752120"/>
            <a:ext cx="373392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ica llev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ufand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rado,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haque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zul,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ald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gra,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ols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egie, y los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ntalo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g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" y="25909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20040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  <a:ea typeface="Arial"/>
              </a:rPr>
              <a:t>El Ontoñ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da llev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ufan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oja.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amis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lanca, gris, y negra.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a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gra. E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intur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 E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o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ar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 Y l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ot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is y blan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265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228240" y="518148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amila lleva El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vestido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morado, y los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zapatos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egi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1600200" y="152280"/>
            <a:ext cx="5715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2fa0e"/>
                    </a:gs>
                    <a:gs pos="100000">
                      <a:srgbClr val="4a25e7"/>
                    </a:gs>
                  </a:gsLst>
                  <a:lin ang="5400000"/>
                </a:gradFill>
                <a:latin typeface="Arial Black"/>
              </a:rPr>
              <a:t>La Primvera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2fa0e"/>
                  </a:gs>
                  <a:gs pos="100000">
                    <a:srgbClr val="4a25e7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1993680" cy="3429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2540160" cy="304812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 rot="409200">
            <a:off x="4876560" y="4952520"/>
            <a:ext cx="31240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ola lleva la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camiseta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blanca. La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chaqueta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rosado y los </a:t>
            </a:r>
            <a:r>
              <a:rPr b="0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pantalones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ros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838080" y="4647960"/>
            <a:ext cx="274320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blo lleva la camisa amarillo. Y e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raje de baño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blanco y azu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1523880" y="304920"/>
            <a:ext cx="624852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5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9933ff"/>
                    </a:gs>
                    <a:gs pos="100000">
                      <a:srgbClr val="3333ff"/>
                    </a:gs>
                  </a:gsLst>
                  <a:lin ang="5400000"/>
                </a:gradFill>
                <a:latin typeface="Times New Roman"/>
              </a:rPr>
              <a:t>El Verano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9933ff"/>
                  </a:gs>
                  <a:gs pos="100000">
                    <a:srgbClr val="3333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436840" cy="27432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098440" cy="275256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 rot="620400">
            <a:off x="5562360" y="464796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ria lleva 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vestid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rojo y blanco. Y 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inturó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zul, rosado, y r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2133720" y="228600"/>
            <a:ext cx="4800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ccesorio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324160" cy="197172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 rot="21038400">
            <a:off x="380880" y="37335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pulser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verde, amarilla, y blan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rot="21105000">
            <a:off x="3428640" y="1523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lla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orado, y azu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3"/>
          <a:stretch/>
        </p:blipFill>
        <p:spPr>
          <a:xfrm>
            <a:off x="6553080" y="1523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 rot="254400">
            <a:off x="6477120" y="3657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aretes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erde, y roj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4"/>
          <a:stretch/>
        </p:blipFill>
        <p:spPr>
          <a:xfrm rot="21394800">
            <a:off x="914400" y="44956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/>
          <p:nvPr/>
        </p:nvSpPr>
        <p:spPr>
          <a:xfrm rot="655200">
            <a:off x="3046680" y="486036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anillo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osado, plateado, y blan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5"/>
          <a:stretch/>
        </p:blipFill>
        <p:spPr>
          <a:xfrm>
            <a:off x="5029200" y="46483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/>
          <p:nvPr/>
        </p:nvSpPr>
        <p:spPr>
          <a:xfrm rot="20973000">
            <a:off x="7162920" y="480024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bols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arrón, begie, y blan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66ff"/>
                </a:solidFill>
                <a:latin typeface="Arial Black"/>
              </a:rPr>
              <a:t>El Traje de Bañ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1838160" cy="248616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1703160" cy="228600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3"/>
          <a:stretch/>
        </p:blipFill>
        <p:spPr>
          <a:xfrm>
            <a:off x="6553080" y="2057400"/>
            <a:ext cx="1854360" cy="23144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 rot="391200">
            <a:off x="304560" y="4952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sta lleva 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traje de bañ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or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rot="21018600">
            <a:off x="3733920" y="50292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abella lleva 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traje de bañ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verde y blan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rot="452400">
            <a:off x="6934320" y="51055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traje de bañ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bonito y elegan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4:44:24Z</dcterms:created>
  <dc:creator>rizzolomar</dc:creator>
  <dc:description/>
  <dc:language>en-US</dc:language>
  <cp:lastModifiedBy>rizzolomar</cp:lastModifiedBy>
  <dcterms:modified xsi:type="dcterms:W3CDTF">2011-12-14T17:02:23Z</dcterms:modified>
  <cp:revision>26</cp:revision>
  <dc:subject/>
  <dc:title>Slide 1</dc:title>
</cp:coreProperties>
</file>